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288588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171-5C81-4CFD-AE3B-C081628D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F95-6711-4F7F-B448-EA3B017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488-1E48-4A32-B74D-18F1D484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520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3596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08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520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3596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610-7A9E-4D3E-A14C-D09B2369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8FDA-DCCE-403D-97C7-BB99D848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77FB-5E67-4620-9055-FBC1BADA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DFE0-FC10-47EE-8786-030B6044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2C2F-582D-44A9-BB70-CAF0F427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237F-08AD-4A5A-9BDD-74BDBCE4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1000" y="457200"/>
            <a:ext cx="10029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5F6C-47FD-46CF-874B-28705DDF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3399-2E22-4462-AFDF-F856E8F1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7E0-F755-413D-A919-2E8646DA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8D14-BD55-4008-9B4D-3DFE97E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74B5-8861-4FC2-B4E2-E1E3F42B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E670-DA0C-4A37-AFE5-E645D9A2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94F0-D493-4F1C-8225-F2A36B81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2520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3596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08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2520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3596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619A-E87C-41D2-8CF8-3A986526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71E-EB46-4B04-8816-037BC515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1E5-E121-4464-B043-3ABADB27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065-E409-442A-9E41-6C8ED408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000" y="457200"/>
            <a:ext cx="10029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D9D-555B-4609-90BE-86B2AB63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DF5-D157-4243-BD31-0D8FD1E8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BAB-70B5-4C11-856E-D0431D90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CE4-0574-4FB5-96D8-EB2FEF77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22944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2944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72240" y="622944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C90E-A2A7-4621-A897-21FD2DB4C6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43080" y="1314360"/>
            <a:ext cx="994392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000" y="83808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800280" y="6229080"/>
            <a:ext cx="21715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43480" y="6229080"/>
            <a:ext cx="3200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429320" y="6229080"/>
            <a:ext cx="2057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4D26-0061-4497-997C-42EABD9654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43080" y="1828800"/>
            <a:ext cx="994392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209320" y="2514240"/>
            <a:ext cx="72010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71000" y="83808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pt-BR" sz="3600" spc="-1" strike="noStrike">
                <a:solidFill>
                  <a:srgbClr val="000000"/>
                </a:solidFill>
                <a:latin typeface="Colonna MT"/>
              </a:rPr>
              <a:t>A HISTÓRIA DO</a:t>
            </a:r>
            <a:r>
              <a:rPr b="1" lang="pt-BR" sz="36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Colonna MT"/>
              </a:rPr>
              <a:t>TEATRO EM VERSOS                               </a:t>
            </a:r>
            <a:r>
              <a:rPr b="1" lang="pt-BR" sz="3600" spc="-1" strike="noStrike">
                <a:solidFill>
                  <a:srgbClr val="000000"/>
                </a:solidFill>
                <a:latin typeface="Colonna MT"/>
              </a:rPr>
              <a:t>	</a:t>
            </a:r>
            <a:r>
              <a:rPr b="1" lang="pt-BR" sz="3600" spc="-1" strike="noStrike">
                <a:solidFill>
                  <a:srgbClr val="000000"/>
                </a:solidFill>
                <a:latin typeface="Colonna MT"/>
              </a:rPr>
              <a:t>	</a:t>
            </a:r>
            <a:r>
              <a:rPr b="1" lang="pt-BR" sz="3600" spc="-1" strike="noStrike">
                <a:solidFill>
                  <a:srgbClr val="000000"/>
                </a:solidFill>
                <a:latin typeface="Colonna MT"/>
              </a:rPr>
              <a:t>FOLHETO DE JÚNIO SANTOS</a:t>
            </a:r>
            <a:r>
              <a:rPr b="1" lang="pt-BR" sz="4000" spc="-1" strike="noStrike">
                <a:solidFill>
                  <a:srgbClr val="000000"/>
                </a:solidFill>
                <a:latin typeface="Colonna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514600"/>
            <a:ext cx="9144000" cy="3657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t-BR" sz="5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pt-BR" sz="5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ENTRE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O CHOR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E  O   RISO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43000" y="3048120"/>
          <a:ext cx="40006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4000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 Black"/>
              </a:rPr>
              <a:t>TRAGÉDIA GREG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200" spc="-1" strike="noStrike">
                <a:solidFill>
                  <a:srgbClr val="25452a"/>
                </a:solidFill>
                <a:latin typeface="Arial Narrow"/>
              </a:rPr>
              <a:t>É a </a:t>
            </a:r>
            <a:r>
              <a:rPr b="1" i="1" lang="pt-BR" sz="1400" spc="-1" strike="noStrike">
                <a:solidFill>
                  <a:srgbClr val="25452a"/>
                </a:solidFill>
                <a:latin typeface="Arial Narrow"/>
              </a:rPr>
              <a:t>Ésquilo, Sófocle e Eurípedes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 santa trindade teatral                     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Que o teatro de hoje            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ve o seu referencial                     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ois eles criaram e inovaram                 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nfeitaram e nos deixaram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ragédia tradi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91200" y="1905120"/>
          <a:ext cx="48672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0" y="1905120"/>
                    <a:ext cx="48672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COMÉDIA CLÁSS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II  </a:t>
            </a:r>
            <a:r>
              <a:rPr b="0" lang="pt-BR" sz="1400" spc="-1" strike="noStrike">
                <a:solidFill>
                  <a:srgbClr val="25452a"/>
                </a:solidFill>
                <a:latin typeface="Arial Narrow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comédia nasceu dos  Kômos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o riso era sua essência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foi com o mestre</a:t>
            </a:r>
            <a:r>
              <a:rPr b="1" i="1" lang="pt-BR" sz="1400" spc="-1" strike="noStrike">
                <a:solidFill>
                  <a:srgbClr val="25452a"/>
                </a:solidFill>
                <a:latin typeface="Arial Narrow"/>
              </a:rPr>
              <a:t> Aristófanes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Que ganhou mais consistência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Satirizando a humanidade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Brincando com a maldade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fraqueza e a indecência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III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sua grande função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ra satirizar a falsidade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Fazer personagens grotescos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 herói virar covardes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exer com o povo todinho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ostrar sentimentos mesquinhos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Sem dó e nem pieda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IV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s principais autores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traçadores do destino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Foram Epicarno e Magnes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Quiônides, Eupolís e Cratino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osídio e Filemon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judaram a dar o tom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sse teatro ferin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V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as o grande pai </a:t>
            </a:r>
            <a:r>
              <a:rPr b="1" i="1" lang="pt-BR" sz="1400" spc="-1" strike="noStrike">
                <a:solidFill>
                  <a:srgbClr val="25452a"/>
                </a:solidFill>
                <a:latin typeface="Arial Narrow"/>
              </a:rPr>
              <a:t>Aristófanes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Foi quem mais contribuiu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Com suas peças satíricas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 linguagem pouco gentil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         “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Lisistrata”, “As Rãs” e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“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s Cavalheiros”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é     um    exemplo       ligeiro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sse        autor         varon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COMÉDIA CLÁSS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VI  </a:t>
            </a:r>
            <a:r>
              <a:rPr b="1" lang="pt-BR" sz="1800" spc="-1" strike="noStrike">
                <a:solidFill>
                  <a:srgbClr val="25452a"/>
                </a:solidFill>
                <a:latin typeface="Tahoma"/>
              </a:rPr>
              <a:t>                     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foi por causa da alegria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Que se tornou popular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Às máscaras e roupas alegres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Vieram ao riso juntar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a dança em seguida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Cada vez mais atrevida              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io pra embelez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VII </a:t>
            </a:r>
            <a:r>
              <a:rPr b="0" lang="pt-BR" sz="1400" spc="-1" strike="noStrike">
                <a:solidFill>
                  <a:srgbClr val="25452a"/>
                </a:solidFill>
                <a:latin typeface="Arial Narro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Hoje quem faz teatro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em o dever de conhecer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s textos de </a:t>
            </a:r>
            <a:r>
              <a:rPr b="1" i="1" lang="pt-BR" sz="1400" spc="-1" strike="noStrike">
                <a:solidFill>
                  <a:srgbClr val="25452a"/>
                </a:solidFill>
                <a:latin typeface="Arial Narrow"/>
              </a:rPr>
              <a:t>Aristófanes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sobre a história saber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ois sem nenhuma média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le é o pai da comédia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amigo pode cr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mascara%20colorida" descr=""/>
          <p:cNvPicPr/>
          <p:nvPr/>
        </p:nvPicPr>
        <p:blipFill>
          <a:blip r:embed="rId1"/>
          <a:stretch/>
        </p:blipFill>
        <p:spPr>
          <a:xfrm>
            <a:off x="5450040" y="1886040"/>
            <a:ext cx="4005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GLOSS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RITUAL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Cerimônia ou conjunto de cerimônias de uma      determinada religião, culto ou seit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BACANAL</a:t>
            </a:r>
            <a:r>
              <a:rPr b="0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Festa romana celebrada em honra a Baco ( nome latino do deus grego Dioniso). Embora não iguais em todas as regiões, identificava-se sempre pelo caráter orgíaco e pela presença de mulheres tomadas de delírio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VINDIMA</a:t>
            </a:r>
            <a:r>
              <a:rPr b="0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Colheita das uvas na época apropriad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ATENAS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Uma das doze divindades do Olimpo. Deusa da inteligência e da sabedoria. Capital da civilização greg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SOLON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Sábio racionalista, legislador e censor de costumes da Grécia antiga</a:t>
            </a:r>
            <a:r>
              <a:rPr b="0" lang="pt-BR" sz="1400" spc="-1" strike="noStrike">
                <a:solidFill>
                  <a:srgbClr val="25452a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THÉSPIS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O primeiro ator e inventor do canto trágico, considerado o mais antigo dos trageógrafos grego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LEGIONÁRIO</a:t>
            </a:r>
            <a:r>
              <a:rPr b="0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Soldado de legiã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PANTOMIMA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Peça teatral ou outro gênero        de espetáculo em que os atores exprimem         idéias e ações apenas por meio de   movimentos;  a arte  e a técnica de exprimir emoções e sentimentos por meio de gestos. O nome 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PANTOMIMO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foi originalmente  dado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aos  antigos atores romanos duma cena muda; ma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tarde pantomima passou a significar a própria representação, no  gênero daquelas  em que apare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a figura dum Arlequim</a:t>
            </a:r>
            <a:r>
              <a:rPr b="0" lang="pt-BR" sz="1400" spc="-1" strike="noStrike">
                <a:solidFill>
                  <a:srgbClr val="25452a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BACANTE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Seguidoras de Baco. Não  era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sacerdotisas, mas ocupavam lugar de destaque n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religião e no culto a esse deus. Empunhavam o tirso, espécie de `lança enramada de hera. Cobert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apenas por  pele  de leão, celebravam as orgias            com gritos e danças desnorteadas. Mergulhavam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em  êxtase místico e adquiriam uma força prodigiosa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de que muitos heróis foram vítim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GLOSS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PROTAGONISTA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Personagem principal de uma peça, de um romance, conto, filme, 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CORO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Elemento do drama clássico grego; na antiga Grécia, o coro era um grupo de cantores e dançarinos que participavam nas festas religiosas e nas representações dramáticas e que, como atores, comentavam as ações das personagens e interpretavam para a assistência o significado dos acontecimento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COTURNO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Bozerguim de sola muito alto usado pelos atores trágico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DRAMATURGO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Na antiga Grécia era o “fazedor de peças teatrais”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DRAMATURGIA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A arte e as técnicas da composição dramática. Dramaturgia emprega-se, geralmente, em referência à arte dramática na sua totalidade, incluindo a escrita, a montagem e a representação de peça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QUIÔNIDE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Poeta cômico antecessor de Aristófan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KÔMO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Dança cômica; procissão alegre. Elemento formador da Comédia Antiga,        somando-se este à farsa origina-se a   Comédia.  </a:t>
            </a:r>
            <a:r>
              <a:rPr b="1" lang="pt-BR" sz="1200" spc="-1" strike="noStrike">
                <a:solidFill>
                  <a:srgbClr val="25452a"/>
                </a:solidFill>
                <a:latin typeface="Tempus Sans ITC"/>
              </a:rPr>
              <a:t>“A etimologia, portanto, que    faz  provir Comédia            de Kômos = procissão   jocosa + oidé = canto + ia, komodia, pelo  latim Comoedia, dos Kômos dionisíacos, reconhecidos   e tutelados pela religião   do Estado, é verdadeira”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EPICARMO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Primeiro autor que, de fato,    escreveu uma comédia digna desse nome.      Nascido em Cos e educado em Megara,           onde se transportou para Siracusa. Ali,              em 485 ªc, apresentou diversas comédias,   segundo    informa Suida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MAGNES, CRATINO, EUPOLIS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Poeta cômicos contemporâneos de Aristófan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FILEMOM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Poeta cômico da chamada        Comédia Nova contemporâneo de   Menandro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 Black"/>
              </a:rPr>
              <a:t>GLOSS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ARISTÓFANES: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Ateniense do séc.. V ªc., nos deixou onze comédias e á somente através delas que se pode não apenas fazer um juízo da comédia ática, mas ainda e sobretudo um levantamento das idéias básicas do maior cômico de todos os tempo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FRÍNICO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Poeta cômico grego, discípulo de Théspis que dividiu o coro em duas metades e concedeu uma importância maior aos papéis femininos, escolhendo seus assuntos onde quer que se oferecesse alguma coisa de patético e de interessante, e não apenas nas aventuras de Dioniso ou nas tradições da época heróic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ÉSQUILO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Poeta trágico de Eleusis, nascido no último quartel do séc.. VI ªc., é considerado o pai da tragéd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SÓFOCLE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O segundo dos grandes trágicos da Grécia, nasceu em Colônia perto de Atenas entre 498 e 495 ªc.Escreveu cerca de 120 peças e foi o mais querido de todos os poetas gregos da tragéd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EURÍPEDE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O terceiro e último dos                  grandes trágicos gregos, nasceu em                                     Salamina, em486 ªc. Pensador e                observador atento, não foi um poeta          indiferente ao seu tempo e é  considerado                 o precursor do drama moderno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SÁTIRO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Filhos de Baco e Nicéia, simbolizavam as forças incontroláveis da natureza vegetal e animal. Primitivamente,  eram representados com a parte inferior do corpo em forma de cavalo ou   de bode. Caracterizavam-se como seres bestiais, preguiçosos, covardes e particularmente sensuais, que aterrorizavam os pastores e viajantes. Mais tarde, passaram a ser  descritos como seres  jovens e doces,  travessos e maliciosos, interessados em  música e dança. Da forma  animal conservaram apenas as orelhas          pontiagudas, pequenos chifres e pés   de  cabra. Faziam parte do cortejo de Baco. No teatro antigo grego, chamava-se satírico a um gênero de peça burlesca e licenciosa  em que participava um          coro de sátiro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 Black"/>
              </a:rPr>
              <a:t>FONTES PESQUIS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Dicionário de Mitologia Grego -Romana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 - Abril Cultur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SHAW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Harry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Dicionário de Termos Literários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2ª Edição. Publicação  Dom Quix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DUARTE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Bandeira. 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História Geral do Teatr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 Vol  II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BRANDÃ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Junito de Souza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Teatro Grego. Tragédia e Comédia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 Ed. Voz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GILLES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Girard, Real Oulet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O Universo do Teatr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Livraria Almeida. Coimbra. 1980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OITICICA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José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Manual de Análise ( Léxica e Sintática).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 Liv. Francisco Alves RJ. 193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CHIAPPINI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Lígia / Morães Leite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O Foco Narrativ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2ª Edição. Ed. Átic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CUNHA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 Antônio Geraldo da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Dicionário Etimológic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Nova Fronteir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BELEZZA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Newton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Teatro Grego e Teatro Roman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RJ. Pongetti, 196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SKIFFITHS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Trevor. 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O que Representar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Caderno de Teatro d’o Tablado - 1986.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00"/>
                </a:solidFill>
                <a:latin typeface="Colonna MT"/>
              </a:rPr>
              <a:t>ASSESSORIA JÔSY DANTAS E RAY LIMA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 Black"/>
              </a:rPr>
              <a:t>PRÓXIMOS FOLHE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2º Folheto: Comédia Romana, Os Mistérios e as Farsas Medievai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3º Folheto: Commédia Dell’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4º Folheto: O teatro épico Brecht e o lirismo de Garcia Lorc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5º Folheto: Shakespeare e o Teatro da Renascença e o Teatro de Ouro  </a:t>
            </a: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           Espanho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6º Folheto: O Teatro de Rua e outros moviment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7º Folheto: Autores, teorias e práticas contemplando Stanislavisk,     </a:t>
            </a: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          Grotowisk, Edward Gordon Craig, Antonin Artaud, entre outro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8º Folheto: O Teatro no Brasi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9º Folheto: O Novo Movimento Cultural Escambo Popular de Ru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10º O teatro do CERVANTES do Brasi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7560" y="5334120"/>
            <a:ext cx="62049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00"/>
                </a:solidFill>
                <a:latin typeface="Times New Roman"/>
              </a:rPr>
              <a:t>SANTOS</a:t>
            </a:r>
            <a:r>
              <a:rPr b="0" lang="pt-BR" sz="1400" spc="-1" strike="noStrike">
                <a:solidFill>
                  <a:srgbClr val="003300"/>
                </a:solidFill>
                <a:latin typeface="Times New Roman"/>
              </a:rPr>
              <a:t>, Júnio,  En</a:t>
            </a:r>
            <a:r>
              <a:rPr b="1" lang="pt-BR" sz="1400" spc="-1" strike="noStrike">
                <a:solidFill>
                  <a:srgbClr val="003300"/>
                </a:solidFill>
                <a:latin typeface="Times New Roman"/>
              </a:rPr>
              <a:t>tre o Choro e o Riso:</a:t>
            </a:r>
            <a:r>
              <a:rPr b="0" lang="pt-BR" sz="1400" spc="-1" strike="noStrike">
                <a:solidFill>
                  <a:srgbClr val="003300"/>
                </a:solidFill>
                <a:latin typeface="Times New Roman"/>
              </a:rPr>
              <a:t>  A História      do   Teatro em   Versos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0" lang="pt-BR" sz="1400" spc="-1" strike="noStrike">
                <a:solidFill>
                  <a:srgbClr val="003300"/>
                </a:solidFill>
                <a:latin typeface="Times New Roman"/>
              </a:rPr>
              <a:t>Folheto em Cordel - Aracati - CE,</a:t>
            </a: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003300"/>
                </a:solidFill>
                <a:latin typeface="Times New Roman"/>
              </a:rPr>
              <a:t>1998</a:t>
            </a: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Ao Nhanduí e Arte Viva</a:t>
            </a:r>
            <a:r>
              <a:rPr b="1" lang="pt-BR" sz="1800" spc="-1" strike="noStrike">
                <a:solidFill>
                  <a:srgbClr val="385243"/>
                </a:solidFill>
                <a:latin typeface="Colonna MT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Messias, Orlângelo e Ray Lima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Ao  Movimento de rua                         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Ao teatro sem cortina                                        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A minha pequena giganta                                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A amada Jôsy Dantas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Deusa da minha r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99ff"/>
                </a:solidFill>
                <a:latin typeface="Arial Black"/>
              </a:rPr>
              <a:t>                </a:t>
            </a:r>
            <a:r>
              <a:rPr b="1" lang="pt-BR" sz="4000" spc="-1" strike="noStrike">
                <a:solidFill>
                  <a:srgbClr val="6699ff"/>
                </a:solidFill>
                <a:latin typeface="Arial Black"/>
              </a:rPr>
              <a:t>OFERECIM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COMÉDIA%20E%20TRAGÉDIA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819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JÚNIO SAN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3" marL="1216080" indent="-17352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Colonna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lonna MT"/>
              </a:rPr>
              <a:t>Sou filho da rua                                                              E do mundo                                                                                Do teatro popular                                                                  Vivo em todo lugar                                                             Onde vive vagabundos                                               Que comigo canta                                                                   Dança e se encanta                                                                           A fome do corpo espanta                                                        Para o espírito  alimentar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16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16080" indent="-17352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6600"/>
                </a:solidFill>
                <a:latin typeface="Tahoma"/>
              </a:rPr>
              <a:t>Ator, Autor, Encenador, Palhaço e Educador Popular  em cena deste 1973, Diretor do CERVANTES do Brasil, brincante de teatro de ru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JÚNIO" descr=""/>
          <p:cNvPicPr/>
          <p:nvPr/>
        </p:nvPicPr>
        <p:blipFill>
          <a:blip r:embed="rId1"/>
          <a:stretch/>
        </p:blipFill>
        <p:spPr>
          <a:xfrm>
            <a:off x="5143680" y="1752480"/>
            <a:ext cx="4524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PRÓLO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Usando a arte do povo                                Para melhor lhe informar                          Venho com estes versos                            Uma história contar                                    Sobre a arte do teatro                                Aquela que idolatro                                  E acho espetacular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II                                                                  Cantarei versos por versos                         Essa arte tão brilhante                                 O teatro ocidental                                      Onde a cada instante                                 Nasce na rua um ator                                Que tem que ser conhecedor                    Dessa história tão marca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Na rima chorarei na tragédia               E dançarei no ritual                               Darei risadas na comédia                            Declamarei no jogral                                   Sofrerei dentro do drama                            Pois tudo que a gente ama                       É o fazer teat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IV                                                               Assim peço licença a Dioniso                   Ésquilos, Théspis e Boal                         A Aristófanes e a Sófocles                        Shakespeare e Arrabal                              A Brecht e </a:t>
            </a:r>
            <a:r>
              <a:rPr b="1" i="1" lang="pt-BR" sz="1600" spc="-1" strike="noStrike">
                <a:solidFill>
                  <a:srgbClr val="25452a"/>
                </a:solidFill>
                <a:latin typeface="Tahoma"/>
              </a:rPr>
              <a:t>Amir Haddat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                   Para que eu possa rimar                            Com a história teat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O RITU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Na sociedade primitiva                               Época da caça ao animal                          Dos cultos a vários deuses                         Da festa e do bacanal                                Nasce o teatro do Ocidente                      Expressão remanescente                           De mitos e rit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VI                                                             Os Ritos eram realizados                          Pelos bruxos e feiticeiros                         Com o intuito de afastar                           Os espíritos zombeteiros                              Agradecer aos deuses                               E muitas e muitas vezes                            Louvar os seus guerrei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VII                                                                Foi dessa forma primitiva                           Que nasceu a teatralização                        O trágico e o bacanal                                 A dramatização                                          A velha e clássica tragédia                        A hilariante comédia                                  O drama e o dramalhão                                VIII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Depois veio a dança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E também a pantomima                            Fruto dos cultos a Dioniso                       Deus do vinho e da vindima                        Da embriaguês e da alegria                       Do teatro e da orgia                                    Das bacantes e da ri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THÉSPIS </a:t>
            </a:r>
            <a:r>
              <a:rPr b="1" lang="pt-BR" sz="2800" spc="-1" strike="noStrike">
                <a:solidFill>
                  <a:srgbClr val="3333ff"/>
                </a:solidFill>
                <a:latin typeface="Arial Black"/>
              </a:rPr>
              <a:t>( O PRIMEIRO ATOR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IX   </a:t>
            </a:r>
            <a:r>
              <a:rPr b="0" lang="pt-BR" sz="1600" spc="-1" strike="noStrike">
                <a:solidFill>
                  <a:srgbClr val="25452a"/>
                </a:solidFill>
                <a:latin typeface="Tahoma"/>
              </a:rPr>
              <a:t>                                                        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Foi dessa fantasia                                     Que Théspis apareceu                               E num altar improvisado                             Iniciou seu apogeu                                     Se dizendo Dioniso                                  Com máscara de choro e riso                    Interpretou o grande de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X                                                               E transformou sua carroça                       No primeiro palco volante                          Saiu feito um mambembe                          Um artista intinerante                                Interpretando o novo                                 Fazendo teatro pro povo                           De forma bem atua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XI                                                               Assim no Mercado de Atenas                      Contra a vontade de Solon                        Théspis, o primeiro ator                         Desenvolveu o seu dom                            Criando o protagonista                             Dando mais vida ao artista                        Ao teatro dando  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XII                                                                                  Mas logo a carroça de Théspis                 Teve que se adaptar                                  Aos espaços construídos                            Com palco e lugar pra sentar                    Onde o povo acomodado                          Assistiam relaxados                                  Esta arte popu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 Black"/>
              </a:rPr>
              <a:t>TRAGÉDIA GREG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Arial Narrow"/>
              </a:rPr>
              <a:t>XIII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 linguagem elevada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inha a finalidade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 falar dos destinos adversos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nobreza e da bondade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o luto e do sacrifício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o fim, do meio e princípio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luta contra a fatalida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IV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ra muito emocionante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Levava o povo a chorar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sentir-se na pele do herói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querer se libertar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s sufocantes paixões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das grandes emoções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ambém poder se liber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V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Versava sobre realidades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Falava de hérois legendários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luta contra o destino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o sofrimento diário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coragem e da rebeldia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tristeza, mitos e agonia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 seu povo legioná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VI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pois de um tempo a tragédia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udou sua atuação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Frínicos criou as máscaras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ôs a mulher na ação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Ésquilo com o segundo ator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trama transformou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ndo-lhe mais emo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 Black"/>
              </a:rPr>
              <a:t>TRAGÉDIA GREG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VII  </a:t>
            </a:r>
            <a:r>
              <a:rPr b="0" lang="pt-BR" sz="1400" spc="-1" strike="noStrike">
                <a:solidFill>
                  <a:srgbClr val="25452a"/>
                </a:solidFill>
                <a:latin typeface="Arial Narrow"/>
              </a:rPr>
              <a:t>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m seguida veio o cenário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coturno e o figurino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Ésquilo aperfeiçoou a máscara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ndo-lhe um tom mais fino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Sófocles deu continuidade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razendo mais novidades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odificando o destin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VIII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irou a importância do coro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Inventou a cenografia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introduziu o terceiro ator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o fundo do palco cria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ndo mais organização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udando a dramatização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visual e a fantas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IX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or fim veio Eurípedes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com ele a tragédia alcançou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ápice de sua história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ois ele modificou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oda a sua estrutura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Vestindo de nova armadura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sta arte de va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foi chamado de pintor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o sentimento e da paixão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dramaturgo da força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alma, do coração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último dos três autores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s grandes pais criadores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ssa tragédia de a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2T14:58:52Z</dcterms:created>
  <dc:creator>João Batista dos Santos Júnior</dc:creator>
  <dc:description/>
  <dc:language>en-US</dc:language>
  <cp:lastModifiedBy>marcio</cp:lastModifiedBy>
  <cp:lastPrinted>1999-06-04T19:11:18Z</cp:lastPrinted>
  <dcterms:modified xsi:type="dcterms:W3CDTF">2000-09-08T04:46:45Z</dcterms:modified>
  <cp:revision>42</cp:revision>
  <dc:subject/>
  <dc:title>O TEATRO EM VERSOS</dc:title>
</cp:coreProperties>
</file>